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188-31C5-4BFE-BA22-F57931063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156-D04F-47D5-93E6-C75D7C58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44CA-04D1-447D-9836-894F2689FF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60E-10FF-4646-96D3-A43E5DE5D0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343-6A8B-46B6-95E0-91A91B787C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BBA3-586E-451D-BAAF-48B50CDAA5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220-8F41-4BCE-BAE7-5452AC7DFB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C0A-23A7-47D0-AFA8-5B9B626C69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1E1D-4A3C-46E5-B96B-80EDBF5D30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5F1-FCAC-4BC2-A379-F0942139A6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0189-A6EC-4B7C-ACFA-93188CA89B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LLER + infini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’abord, je vais…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52388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mettre des événements dans un ordre chronologique, on utilis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ES MOTS DE TRANSI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D’abord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regarder la télé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Ensuite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faire mes 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uis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aider ma mère avec le dîn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près ça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lire un roman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Enfin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dormi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Instructions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52388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Utilisez les mots de transition pour dire à votre collègue de classe ce que tu vas faire cet aprèm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emple: D’abord, je vais…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525a28"/>
                </a:solidFill>
                <a:latin typeface="Times New Roman"/>
              </a:rPr>
              <a:t>D’abord, je vais regarder la télé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Chaque personne va dire ce qu’il/elle va faire pour chaque diapositiv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3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Qu’est-ce que tu vas faire cet aprèm?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07" name="Picture 5" descr="C:\Documents and Settings\Michael\Local Settings\Temporary Internet Files\Content.IE5\1X2V9UFE\MC900431560[1].png"/>
          <p:cNvPicPr/>
          <p:nvPr/>
        </p:nvPicPr>
        <p:blipFill>
          <a:blip r:embed="rId1"/>
          <a:stretch/>
        </p:blipFill>
        <p:spPr>
          <a:xfrm>
            <a:off x="3276720" y="22096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525a28"/>
                </a:solidFill>
                <a:latin typeface="Times New Roman"/>
              </a:rPr>
              <a:t>Changez de partenaire!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525a28"/>
                </a:solidFill>
                <a:latin typeface="Times New Roman"/>
              </a:rPr>
              <a:t>Changez de partenaire!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4T14:04:24Z</dcterms:modified>
  <cp:revision>76</cp:revision>
  <dc:subject/>
  <dc:title>Allez, viens! – Level 2</dc:title>
</cp:coreProperties>
</file>